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C9C-A22C-4F9E-9734-EE9AB158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066-390A-4314-BFF5-62D5A422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25B-5A5F-4628-BBF5-8BD28533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DB5-2ED9-4B31-B107-5DAC06F5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88F2-87FC-439E-8C32-73BB6EFC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24E5-450C-4BEB-97C1-E089B24C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87B5-78DC-4D12-AD80-5DDD0FB1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6CBD-39C5-4F0D-B510-BA6A798D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26FF-87E0-4C8A-84A7-7042B9D2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C8AE-8063-41E5-8F06-C40761F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CCED-3428-46E4-9CE5-5EF6533F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518-8B52-4311-A80C-A79B0196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E4A3-6B8E-4B26-AF2E-3D4F602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E456-C80B-4BD6-8E6C-DED3BFD6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DF4D-1CCC-42F6-B62E-DD796357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1845-5462-4275-B126-8BAF93FC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AA19-AC2B-499D-B585-83AF6CBD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C05-2E38-4CDE-82C5-EC3ADB6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A66-E02C-424F-BC7C-E62FC5D0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276-18F7-4A35-84DA-A5553C93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065-81DA-472F-BA7F-82252DEF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BB7-2F12-44C6-AE4B-5D7A86B9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485-977E-4402-A1EE-D1A1573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63D-1914-4A7F-A465-926C6282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6D38-9364-4C30-BBB3-A993C68ED4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498F-49CF-49F9-A5AB-C26B8A2CB0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United Kingd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uel 11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7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4040" cy="6877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562720" y="1066680"/>
            <a:ext cx="250488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mmonite Terri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e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abesh-Gile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200400" y="1295280"/>
            <a:ext cx="2209680" cy="304812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23720" y="2362320"/>
            <a:ext cx="3048120" cy="6094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666520" y="3047760"/>
            <a:ext cx="3124440" cy="53316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ul Shows Leadershi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Sam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hash, king of the Ammonites, besieges Jabesh-gi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es to its inhabitants the most degrading conditions of peace, v. 1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pply to their brethren for help, v. 3-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ul hears of their distress; takes a yoke of oxen, cuts them in pieces, and sends them throughout the coasts of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threatens that all who did not come to his banner would have his cattle served in like ma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onsequence of which he is soon at the head of an army of 330,000 men, v. 5-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ul Shows Leadershi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Sam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nds to Jabesh-gilead, and promises help, v. 9-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attacks the Ammonites next morning, and gives them a total overthrow, v. 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are greatly encouraged, and they propose to put to death those who are opposed to Saul's government: but he prevents this, v. 12-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 leads the people to Gilgal: they offer sacrifices, and renew the kingdom to Saul, v. 14-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uel’s Farewell Addres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uel, grown old, testifies his integrity before the people, which they confirm, v. 1-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proves them for their ingratitude and disobe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gives a summary of the history of their fathers, v. 6-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uel’s Farewell Addres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Sam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exhorts them to future obedience, and calls for a sign from heaven to confirm his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how them their disobedience: God sends an extraordinary thunder and rain v. 13-1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rns them against idolatry, and exhorts to obedience, and promises to intercede for them, v. 20-2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s up their duty, and concludes with a solemn warning, v. 24-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ul’s Ill-advised Sacrif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Sam 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chooses a body of troops, v. 1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nathan smites a garrison of the Philistines, v. 3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ilistines gather together an immense host against Israel, v.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raelites are afraid; and some hide themselves in caves, and others flee over Jordan, v. 6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 delaying his coming, Saul offers sacrifice, v. 8-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ul’s Ill-advised Sacrif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Sam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uel comes and reproves him, and Saul excuses himself, v. 10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d’s Authority Mat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TAKE Authority Into Own H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uel shows him that God has rejected him from being captain over his people, v. 13-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uel departs; and Saul and Jonathan, with 600 men abide in Gibeah, v. 15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hilistines send out companies, and devastate the land, v. 17-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olate state of the Israelite army, having no weapons of defense against their enemies, v. 19-2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1:25:37Z</dcterms:created>
  <dc:creator>Terry W. Benton</dc:creator>
  <dc:description/>
  <dc:language>en-US</dc:language>
  <cp:lastModifiedBy> Don Vines</cp:lastModifiedBy>
  <dcterms:modified xsi:type="dcterms:W3CDTF">2005-03-30T19:46:44Z</dcterms:modified>
  <cp:revision>1</cp:revision>
  <dc:subject/>
  <dc:title>The United Kingdom</dc:title>
</cp:coreProperties>
</file>